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183-1024-4AB1-B3CB-5C73D4C9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37F-ABE0-431A-BEAF-9086F78A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22C-C47F-40DD-9972-9D69E190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7AC-D5C6-4CFD-8772-2D793AD4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C3E-5AF2-4535-99B9-53225B0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A31-04FC-45A3-8B52-74BF1A82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3CA-0F37-4E43-A5FA-A8830B5A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ABF-EB0F-4D35-8EB4-F62F22B8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98B-44C9-4CA0-9204-A48E8138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B79-FA0D-4907-996F-1D43BCFA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AA4-5408-45E5-B389-E18B5D2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342-9239-4BD9-A480-B362E6AE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D76-6F62-4F27-86A5-9EE67B80D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257400">
            <a:off x="3635280" y="52970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创作者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409200">
            <a:off x="5724000" y="443664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毕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542200">
            <a:off x="2050920" y="9810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Welcome to our class 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 rot="1506600">
            <a:off x="931680" y="4776840"/>
            <a:ext cx="210960" cy="328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50200">
            <a:off x="1371600" y="3398760"/>
            <a:ext cx="5000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875800">
            <a:off x="1733040" y="546120"/>
            <a:ext cx="7439040" cy="287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67200">
            <a:off x="1143000" y="4191120"/>
            <a:ext cx="2286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58942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92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87280" y="1413000"/>
            <a:ext cx="6480360" cy="4537080"/>
            <a:chOff x="1187280" y="1413000"/>
            <a:chExt cx="6480360" cy="4537080"/>
          </a:xfrm>
        </p:grpSpPr>
        <p:sp>
          <p:nvSpPr>
            <p:cNvPr id="110" name=""/>
            <p:cNvSpPr/>
            <p:nvPr/>
          </p:nvSpPr>
          <p:spPr>
            <a:xfrm>
              <a:off x="1187280" y="141300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627280" y="2924280"/>
              <a:ext cx="3816360" cy="120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Salt Lake Desert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4356000" cy="2951280"/>
            <a:chOff x="0" y="0"/>
            <a:chExt cx="4356000" cy="2951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4356000" cy="2951280"/>
            </a:xfrm>
            <a:prstGeom prst="cloudCallout">
              <a:avLst>
                <a:gd name="adj1" fmla="val 6634"/>
                <a:gd name="adj2" fmla="val 6909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4360" y="1506600"/>
              <a:ext cx="27622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Lost their way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4581360"/>
            <a:ext cx="5400720" cy="2159280"/>
            <a:chOff x="3564000" y="4581360"/>
            <a:chExt cx="5400720" cy="2159280"/>
          </a:xfrm>
        </p:grpSpPr>
        <p:sp>
          <p:nvSpPr>
            <p:cNvPr id="116" name=""/>
            <p:cNvSpPr/>
            <p:nvPr/>
          </p:nvSpPr>
          <p:spPr>
            <a:xfrm>
              <a:off x="3672000" y="4581360"/>
              <a:ext cx="5292720" cy="2159280"/>
            </a:xfrm>
            <a:prstGeom prst="wedgeRoundRectCallout">
              <a:avLst>
                <a:gd name="adj1" fmla="val -35032"/>
                <a:gd name="adj2" fmla="val 9311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cap="rnd" w="9360">
              <a:solidFill>
                <a:srgbClr val="ff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564000" y="5168880"/>
              <a:ext cx="5400720" cy="12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without water 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grass for animal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dry and barre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42920" y="0"/>
            <a:ext cx="6480360" cy="4537080"/>
            <a:chOff x="1042920" y="0"/>
            <a:chExt cx="6480360" cy="4537080"/>
          </a:xfrm>
        </p:grpSpPr>
        <p:sp>
          <p:nvSpPr>
            <p:cNvPr id="119" name=""/>
            <p:cNvSpPr/>
            <p:nvPr/>
          </p:nvSpPr>
          <p:spPr>
            <a:xfrm>
              <a:off x="1042920" y="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72000" y="1655640"/>
              <a:ext cx="2857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Death Valle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26920" y="3429000"/>
            <a:ext cx="7200720" cy="3095280"/>
            <a:chOff x="826920" y="3429000"/>
            <a:chExt cx="7200720" cy="3095280"/>
          </a:xfrm>
        </p:grpSpPr>
        <p:sp>
          <p:nvSpPr>
            <p:cNvPr id="122" name=""/>
            <p:cNvSpPr/>
            <p:nvPr/>
          </p:nvSpPr>
          <p:spPr>
            <a:xfrm>
              <a:off x="826920" y="3429000"/>
              <a:ext cx="7200720" cy="3095280"/>
            </a:xfrm>
            <a:prstGeom prst="wedgeRoundRectCallout">
              <a:avLst>
                <a:gd name="adj1" fmla="val -28893"/>
                <a:gd name="adj2" fmla="val 41583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35400" y="3917880"/>
              <a:ext cx="5806800" cy="20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ead animal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Abandoned thing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Such as …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2349360"/>
            <a:ext cx="7488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What can you learn from the text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411280" y="119700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kimm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306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108400">
            <a:off x="2271960" y="18756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578000">
            <a:off x="1304640" y="2565000"/>
            <a:ext cx="81900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578000">
            <a:off x="2556000" y="2492280"/>
            <a:ext cx="287280" cy="57636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40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Language Studi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42100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1.Discuss any problems which    you meet with in the t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29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2.Let’s discus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60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1.It was not easy to decide what to take and what t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eave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97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ve behind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844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觉得我把信用卡落在餐馆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276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______ my credit card  __________at the restau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我就被远远抛在了后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221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_______________ far beh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44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4954680"/>
            <a:ext cx="144720" cy="1498680"/>
          </a:xfrm>
          <a:custGeom>
            <a:avLst/>
            <a:gdLst>
              <a:gd name="textAreaLeft" fmla="*/ 92520 w 144720"/>
              <a:gd name="textAreaRight" fmla="*/ 145080 w 14472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869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44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5166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5084640"/>
            <a:ext cx="504720" cy="1584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1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95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800" y="22446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1600" y="28926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7440" y="4221000"/>
            <a:ext cx="34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as soon 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6094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.The animals dragged their legs,too weak to pull their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bu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0" y="18288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905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担；责任；重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)Eleph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8360" y="23623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The old man doesn’t want to _______ ____   __________ to his children and always to do what he can by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81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      a     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6720" y="52261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0720" y="476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某人自已肩负（重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34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urden sb /oneself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f I were you , I wouldn’t ________ ______ _____ other people’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189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是我，我绝不像你那样为别人的问题而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9895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想让我的问题困扰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7214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don’t want to ________ _____ _______ m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53852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 you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080" y="26668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33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or many weeks w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had been accustomed 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seeing horses and oxen suffering from heat, thirst and sta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6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e accustomed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06064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565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accustom oneself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8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习惯这么早起进行晨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789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am not accustomed to __________ ______so early to do morning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560" y="55468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It’ll take me some tim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________ ____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getting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需要花很时间来适应这些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680" y="6095880"/>
            <a:ext cx="47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accustom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40179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On hearing the bad news, he got up quickly, _______ the lunch unfin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3320" y="5010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50817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586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6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886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5800" y="429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429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557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1.We take our skin  for granted until it is burned ______re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2705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9640" y="27050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B.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4080" y="3354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8440" y="3354480"/>
            <a:ext cx="15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8129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582480"/>
            <a:ext cx="3191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RACTIS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1644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4508640"/>
            <a:ext cx="21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oday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3280" y="1197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gLiU"/>
              </a:rPr>
              <a:t>modernized</a:t>
            </a:r>
            <a:endParaRPr b="1" lang="en-US" sz="4800" spc="1" strike="noStrike">
              <a:ln w="1908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gLiU"/>
              <a:ea typeface="MingLiU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743280" cy="38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56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05264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1.The little cart is squeaking (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吱吱响）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 the heav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6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12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b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128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341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78136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When considering how to settle the problem,the most important factor—weather, he had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437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50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84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084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573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32000" y="62064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2492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Sans Unicode"/>
              </a:rPr>
              <a:t>1.Finish  Language stu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57336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2.Finsh the gramm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21114600">
            <a:off x="2743200" y="1905120"/>
            <a:ext cx="335592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Goodby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24000" y="620640"/>
            <a:ext cx="6624720" cy="5532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371600" y="2438280"/>
            <a:ext cx="45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n the 1840's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175284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435600">
            <a:off x="1763640" y="2060280"/>
            <a:ext cx="4797360" cy="225360"/>
          </a:xfrm>
          <a:prstGeom prst="leftArrow">
            <a:avLst>
              <a:gd name="adj1" fmla="val 50000"/>
              <a:gd name="adj2" fmla="val 5321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284640"/>
            <a:ext cx="4572000" cy="228600"/>
          </a:xfrm>
          <a:prstGeom prst="leftArrow">
            <a:avLst>
              <a:gd name="adj1" fmla="val 50000"/>
              <a:gd name="adj2" fmla="val 50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7280" y="1890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1720" y="620640"/>
            <a:ext cx="36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"/>
                <a:ea typeface="Dotum"/>
              </a:rPr>
              <a:t>GOING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475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AD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31240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08400">
            <a:off x="2365920" y="30348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578000">
            <a:off x="1225080" y="2587320"/>
            <a:ext cx="90504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578000">
            <a:off x="2457360" y="2572920"/>
            <a:ext cx="381240" cy="52884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mel" descr=""/>
          <p:cNvPicPr/>
          <p:nvPr/>
        </p:nvPicPr>
        <p:blipFill>
          <a:blip r:embed="rId5"/>
          <a:stretch/>
        </p:blipFill>
        <p:spPr>
          <a:xfrm>
            <a:off x="1143000" y="26668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Camel" descr=""/>
          <p:cNvPicPr/>
          <p:nvPr/>
        </p:nvPicPr>
        <p:blipFill>
          <a:blip r:embed="rId6"/>
          <a:stretch/>
        </p:blipFill>
        <p:spPr>
          <a:xfrm>
            <a:off x="1600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Camel" descr=""/>
          <p:cNvPicPr/>
          <p:nvPr/>
        </p:nvPicPr>
        <p:blipFill>
          <a:blip r:embed="rId7"/>
          <a:stretch/>
        </p:blipFill>
        <p:spPr>
          <a:xfrm>
            <a:off x="2286000" y="2314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cann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549360"/>
            <a:ext cx="532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800360"/>
            <a:ext cx="9144000" cy="5157720"/>
          </a:xfrm>
          <a:prstGeom prst="cloudCallout">
            <a:avLst>
              <a:gd name="adj1" fmla="val 32657"/>
              <a:gd name="adj2" fmla="val -37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1800" y="1827360"/>
            <a:ext cx="7972560" cy="50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Frontier ,meeting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lace for people moving to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the west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41300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1989000"/>
            <a:ext cx="5508360" cy="3645000"/>
            <a:chOff x="1835280" y="1989000"/>
            <a:chExt cx="5508360" cy="3645000"/>
          </a:xfrm>
        </p:grpSpPr>
        <p:sp>
          <p:nvSpPr>
            <p:cNvPr id="106" name=""/>
            <p:cNvSpPr/>
            <p:nvPr/>
          </p:nvSpPr>
          <p:spPr>
            <a:xfrm>
              <a:off x="1835280" y="1989000"/>
              <a:ext cx="5508360" cy="3645000"/>
            </a:xfrm>
            <a:prstGeom prst="irregularSeal2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203280" y="3068640"/>
              <a:ext cx="2376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-方正超大字符集"/>
                </a:rPr>
                <a:t>beautiful</a:t>
              </a:r>
              <a:endParaRPr b="1" lang="en-US" sz="24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-方正超大字符集"/>
                <a:ea typeface="宋体-方正超大字符集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490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02:37Z</dcterms:created>
  <dc:creator>Bisheng</dc:creator>
  <dc:description/>
  <dc:language>en-US</dc:language>
  <cp:lastModifiedBy>Guest</cp:lastModifiedBy>
  <dcterms:modified xsi:type="dcterms:W3CDTF">2005-09-24T12:59:54Z</dcterms:modified>
  <cp:revision>95</cp:revision>
  <dc:subject/>
  <dc:title>PowerPoint 演示文稿</dc:title>
</cp:coreProperties>
</file>